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2B8-D3E7-4F61-A439-E725309C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2C0-7675-4DAF-ADDA-B07267AF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339-A83B-40E5-9E90-A56B22C5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2B5-3594-45FD-8E78-062D4777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18D99-62F8-4898-AFBA-3EBE1D65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4FAA7-49EE-4C8E-B47B-2371BA8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B39D8-5E38-4F27-8E9C-76742932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24CE1-47C0-4414-A501-A48D5A48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98468-1E63-4595-9C5F-9EC25C7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690BE-35C3-4013-85B3-83A2083B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F22FC-B30A-4947-8473-517784F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9FC-C474-4514-A05B-1EC16CA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D95CD-7866-46A5-8ED1-5DC40F2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77CB9-40E0-451D-AC35-A5D2A41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B6BD3-8021-4F9D-BCC2-0D1A11B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8E84C-5B00-472B-84C0-F0449695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8BABB-F4D8-43CF-BBAF-4632B5A8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A41-D7FD-4A1D-8214-93E83BEE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4F0-4416-44A0-B81B-962ADBE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9BB-9EE9-49B7-B818-173FDD2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B93-A18A-44E5-8464-AD944124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855-EDE9-4280-A0FC-9EE153D3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FE3-B252-448F-90DE-2246675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231-5005-4A35-BEAA-84F8877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3D5-FF45-43EA-AD92-77AB47E68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52F-9E2C-4A69-8E79-ED5FBBC4E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Cur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urve of Innovation Adop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k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467480" cy="4800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28T02:06:01Z</dcterms:modified>
  <cp:revision>10</cp:revision>
  <dc:subject/>
  <dc:title>Web 2.0 Technology Tools</dc:title>
</cp:coreProperties>
</file>