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AFD-5417-4F26-977C-6DFEC17C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E7A-7263-49FC-984D-CF2C0BE4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331-2A4D-4426-B549-7F55277A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0C8-3757-40B2-81F8-3C234F57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F6AC3-2D97-48E1-A867-AB34A6DC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6CAE2-EE44-4706-8981-22418E8F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8EA55-7006-496A-BFC6-87D86687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805A5-123D-431C-9088-487FBEE4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059A8-38BC-4A7D-A691-0851DB87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803B9-584B-4AE3-A7A1-10EA0C8E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C319A-BC4F-4B6A-972C-E8879128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D08-0997-4809-8F4D-4B41D80D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9C046-D1BF-41E2-A111-7FD64F1D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4E4AF-2C14-42A1-A65D-B3C11E38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D196C-81F2-4806-804D-AFB2C690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22B1F-35B3-47CF-A927-EBF61B6F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E5F08-ADC7-4872-BDEB-05B3615B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CC7-EEF1-4275-91DE-FE04D13B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F57-97BC-479A-B226-FE4E93A4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A6D-C509-42FC-8CDB-45BBB3D0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4B6-7196-4891-A02C-20C375D3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9D2-D139-4673-86D9-775A2504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B52-7ABB-455A-B08F-AD0B54F8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2B1-450E-4C92-9F8F-4E08B8FE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786D-1308-4D89-A61F-111EA9C8C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3A72-AA42-40C7-9638-2039F4453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need for improvement and communicate those needs such 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writ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ollaboration ski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ritical think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technology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communicate how the use of wikis meet those needs such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writing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ollabo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ritical thin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increasing technolog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30T19:01:59Z</dcterms:modified>
  <cp:revision>20</cp:revision>
  <dc:subject/>
  <dc:title>Web 2.0 Technology Tools</dc:title>
</cp:coreProperties>
</file>