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C7C3-B2B7-45DD-B42F-1234FF4A8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CDB5-3134-4245-BEE8-BCE79591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A723-CE9F-4C9D-ACEA-4ED1C6134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7661-CE8B-472C-9266-E63BD33FB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A9B76-1CB3-4C3B-A55D-84B0C2C84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35849-1EF5-4E12-8ABD-BCBAF99E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4BD60-9267-42F1-8184-310695AB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015C7-49BC-4047-92D3-5ECD20AC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FDB6D-4C67-4D07-A43A-807ED15B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A99F3-3324-4BC7-9C08-4ED41682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B98C3-2540-4367-AF8D-63DCC3AD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CA4D-5DF9-4A50-A415-FF7B6455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48F4C-764E-42BF-8D40-84FC2FE1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D7C43-D9CA-4B58-97DE-EAD4307A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C89F6-9940-4F29-B566-F099BECA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AECD1-6FD5-41C4-8F36-C9A1D0685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92507-D2CB-4B38-84EB-86C0D5DD6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A793-D892-4935-8897-B9B2FD44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2B61-9EAC-4CC5-9B16-92437F0A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D9BD-13BA-42CE-93C8-DA0D34BF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10E5-B13F-4CC4-A62D-4A6734E4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8E9B-2B1D-4D06-A364-E149E1A9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DB5E-E9C4-4F86-9E6F-F92FE23F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C157-6FC1-497C-AAED-BF79CF4D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8CE7-2729-47EA-8FAA-71DE2C12BC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C5A2-0FC6-4C52-ACA4-A7B508B5C3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b 2.0 Technology Too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Dona Sis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UC 884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ntralized or Decentralized Approach for Adoption of Innovatio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2514600"/>
            <a:ext cx="6019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ralized approach targeting directors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ralized approach targeting department chai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entralized approach targeting teach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ey Change Ag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057040" y="3581280"/>
            <a:ext cx="5257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artment Chai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e model teach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ology savvy stud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Agents Ro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297180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stablish informational exchange network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Influence behavior chang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Reinforce behavioral chan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stablish process for problem resolu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Critical Ma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251424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mass attained in private and business domai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e innovation to department chai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e innovation to science and technology grou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ole of Champ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gnize the need for improvement and communicate those needs such a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improve writing 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improve collaboration skill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improve critical thinking 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improve technology 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ole of Champ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and communicate how the use of wikis meet those needs such 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provides opportunity for writing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provides opportunity for collabor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provides opportunity for critical think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le increasing technology skill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06:40:38Z</dcterms:created>
  <dc:creator>dsisk</dc:creator>
  <dc:description/>
  <dc:language>en-US</dc:language>
  <cp:lastModifiedBy>dsisk</cp:lastModifiedBy>
  <dcterms:modified xsi:type="dcterms:W3CDTF">2010-05-30T19:01:59Z</dcterms:modified>
  <cp:revision>20</cp:revision>
  <dc:subject/>
  <dc:title>Web 2.0 Technology Tools</dc:title>
</cp:coreProperties>
</file>