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98C-4BAB-4729-9396-BE63E775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D10-2C04-413A-8D5B-E2773D37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51E-B9E0-45FD-A77D-1CC5F083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5F2-87D0-4571-81F8-BA1218EB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142B7-6563-4FE4-9152-D0A5414C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BECDC-2957-40D7-B6A9-D4087E1B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8D4C2-D0D6-4791-A90A-A06544CB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3CCF7-81BD-4FF9-A20A-32543E7B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B06DF-4EE2-424C-B9CD-17688D4E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74124-8D5F-4128-9BA3-2618B10A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0110A-4BC1-45A6-9EB3-DDD7CE91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837-78DC-4AA0-B0D2-184178C7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38035-BEB5-4018-8358-45E2C6F3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34732-F2A1-41B3-B2A9-95E76F31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DBF6B-22B4-41C4-BBB3-78D10BF5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9405C-842F-4088-A13D-2894A46C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870D2-D571-41DC-B329-A7818A78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C12-6F56-406A-8C12-2B2B6742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F8A-07AB-4257-BA00-723178A0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011-EE5D-4F47-8570-862C8F33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514-4116-4282-A2ED-DC746F8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9ED-D0C5-46C2-8EED-661967E2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948-01C7-4FBE-BA5D-EE95C3D3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728-3EC0-4EF3-8056-E6135CAC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F6D-CEB7-45A3-B963-22072F47E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50D7-7B0F-458F-A784-049AD74E5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7:29:33Z</dcterms:modified>
  <cp:revision>19</cp:revision>
  <dc:subject/>
  <dc:title>Web 2.0 Technology Tools</dc:title>
</cp:coreProperties>
</file>