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31B-AAF5-4F1C-B530-9642D9DF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72E-187A-4FA0-B8F1-A3E006F1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A18-8F3C-45EE-B8D3-B2D96158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A62-1483-4ECE-AE15-9CC02EE1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EF82F-3FD6-4878-813B-C94301AA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63B98-6DE0-449B-BF9A-B8BF4BF6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C31F9-26EB-4E49-A782-9972DE26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140AB-97F2-42E9-9C3B-E26C3668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18A7D-9A94-4E4E-9E2B-85F67DD4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7B2F0-37BF-4C4B-90CD-28C2166F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B3514-489B-43C1-85AA-CAB31C9A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57F-DF4A-449C-B9FA-3D092F83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4309F-C07C-44D7-B113-1F360EE7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BC96E-03A8-4374-A7C0-0F710E60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6118C-B7BC-461A-9ACC-B2C53672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DC3A0-5967-4A7E-BDA9-9C453183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879A0-6B37-4C7A-882B-7908567C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BD6-CAD1-4377-84C0-9939D200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4D1-97AE-4F52-A67B-A6F923AE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93C-9884-44E3-98AC-4BDCDB9B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BD0-68F0-4847-AC3C-64568025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6A3-EE06-4303-80C2-E2B5FFCF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181-9D79-45F3-9BE4-8EA6E212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F52D-3946-4A6B-A6C7-905D01AD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4B78-C0FC-474A-A3FA-63BC0DD8A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5F13-E9D1-40F8-B891-3A8660E94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ntralized or Decentralized Approach for Adoption of Innova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irector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entralized approach targeting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 Change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358128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artment Ch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model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y savvy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Agents Ro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9718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informational exchange networ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fluence behavior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inforce behavioral ch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process for problem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Critical 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attained in private and business domai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science and technology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11T07:29:33Z</dcterms:modified>
  <cp:revision>19</cp:revision>
  <dc:subject/>
  <dc:title>Web 2.0 Technology Tools</dc:title>
</cp:coreProperties>
</file>