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0F7-1C48-4328-B3D7-34D3CDBA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E12F-951C-4665-A615-C8716088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80EE-5D9F-4B70-B746-3973D869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5F53-871F-463D-9E22-A1B14CDB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4F770-2916-4C77-BD1B-AC81CF15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69497-1676-45F4-8029-37C909AF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61E76-662C-4438-8DAA-54C0230B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C88ED-3945-459B-ADB4-B9402A62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82F43-3FA6-438C-83B7-72B1F4BD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0E2F4-FEB5-4084-B72A-3F2F6B85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8DBAD-0499-47A8-99A1-6D1564A0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716C-6445-4051-89EE-7F4B03D7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26771-2A1A-4EF7-8FB6-5FF4FE59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7CB81-1861-4D95-94F1-CB1D3675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302C8-4125-4BC3-80DC-3086F8A5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404BF-9967-4E87-AE51-A7F5BDCB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A6966-F7AF-4AF5-8E7E-A67CF542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8F9-39DA-4750-BB4F-15064F3A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CFBE-AB11-4B56-B417-E27A84FD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796-1B08-43C2-B473-D46827A2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195-834F-467C-ADFD-17E00582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2B4-DEAC-44A6-BCBE-820122F3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E7CC-F56E-407E-91EB-516F4490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9516-CB49-4763-B103-0885C8EF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9A2A-EAA2-4E03-9AD0-17AA3C3A1A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542D-D484-40EB-9E76-DD8193B8CC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jello.org/Volume3/IJKLOv3p057-072Parker284.pdf" TargetMode="External"/><Relationship Id="rId3" Type="http://schemas.openxmlformats.org/officeDocument/2006/relationships/hyperlink" Target="http://www.insanbilimleri.com/en" TargetMode="External"/><Relationship Id="rId4" Type="http://schemas.openxmlformats.org/officeDocument/2006/relationships/hyperlink" Target="http://www.insanbilimleri.com/en" TargetMode="External"/><Relationship Id="rId5" Type="http://schemas.openxmlformats.org/officeDocument/2006/relationships/hyperlink" Target="http://www.insanbilimleri.com/en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Wikis and Blogs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2743200"/>
            <a:ext cx="6019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er-to-peer collab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-oriented lear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nection to community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meaningful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unctionality in the Classroom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student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3733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ity with technolo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t in utilizing technolo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skills needed for online collab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arch shows…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es interaction and communic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luel &amp; Mazman, 2009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f most important ways of obtaining effective outcomes with technologies is individuals’ acceptance and usage of technolog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luel &amp; Mazman, 2009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kis are beneficial in enhancing collaborative work situations among stud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hao &amp; Parker, 2007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riers in the classroo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acher uncertain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ning time and effo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ychology of online behavior in classr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o, J. &amp; Parker, K. (2007). Wiki as a teaching tool.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disciplinary Journal of Knowledge and Learning Objec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3, 57-71. Retrieved from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2"/>
              </a:rPr>
              <a:t>http://ijello.org/Volume3/IJKLOv3p057-072Parker284.pd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gers, E. (2003)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usion of innovati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th ed.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New York: Free Pres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luel, Y. &amp; Mazman, S. (2009). Adoption of Web 2.0 tools in distance education.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Journalof Human Scienc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6(2), 89-98. Retrieved from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4"/>
              </a:rPr>
              <a:t>www.insanbilimleri.com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5"/>
              </a:rPr>
              <a:t>/e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4-12T07:40:51Z</dcterms:modified>
  <cp:revision>8</cp:revision>
  <dc:subject/>
  <dc:title>Web 2.0 Technology Tools</dc:title>
</cp:coreProperties>
</file>