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E90-1AE7-4CF6-9ABE-BAF8AFA4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881-4C01-4A78-80CC-A06563C0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7C6-F982-4CFC-8793-3610E554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B38-EA3B-4BC8-89A2-AC2E0D12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60D7F-D8CD-483C-BCB1-412DC582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ECFCA-2A62-4582-8200-D4A7CBE5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ECFF2-5534-4036-96BA-80292740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A593B-A0BE-49F3-8288-175ED0D8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18ECB-2CC1-413C-8FB0-50006050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E2E33-A234-4ECC-9586-879361EF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CCB62-A975-4078-8805-C6E47F7C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345-83A9-407C-8ED8-08F22623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83E30-A436-4EA0-803D-0F3A68D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D49D1-819B-4A84-9322-F5D7D25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405C6-111E-4842-813B-E5EC7839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C6521-822E-433E-98C8-858B9AA9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F7702-A0D2-477A-A516-3471CE03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0C94-D4A2-4070-BEA9-AD7C9CB6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991-133E-429D-8394-0801561B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1D6-D6B3-45AF-B42C-7063294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FB5-EBF5-4C50-9582-F1D8E7B1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92D-DBE8-4FD3-8640-5BF6B2BC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429-CD39-4010-A5C2-162E064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551-9FD6-49D5-99B7-F88C5CD4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2AB1-60B9-44E6-8239-A855545B4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C820-5DE4-4987-8AD7-F80BE0B3C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jello.org/Volume3/IJKLOv3p057-072Parker284.pdf" TargetMode="External"/><Relationship Id="rId3" Type="http://schemas.openxmlformats.org/officeDocument/2006/relationships/hyperlink" Target="http://www.insanbilimleri.com/en" TargetMode="External"/><Relationship Id="rId4" Type="http://schemas.openxmlformats.org/officeDocument/2006/relationships/hyperlink" Target="http://www.insanbilimleri.com/en" TargetMode="External"/><Relationship Id="rId5" Type="http://schemas.openxmlformats.org/officeDocument/2006/relationships/hyperlink" Target="http://www.insanbilimleri.com/en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ikis and Blog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2743200"/>
            <a:ext cx="6019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er-to-peer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-oriented lear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ion to community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meaningful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ctionality in the Classroo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tudent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ity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 in utilizing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skills needed for online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shows…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s interaction and communi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most important ways of obtaining effective outcomes with technologies is individuals’ acceptance and usage of technolog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kis are beneficial in enhancing collaborative work situations among stud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ao &amp; Parker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iers in the classroo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cher uncertain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 time and eff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y of online behavior in class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o, J. &amp; Parker, K. (2007). Wiki as a teaching tool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disciplinary Journal of Knowledge and Learning Objec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3, 57-71. Retrieved from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2"/>
              </a:rPr>
              <a:t>http://ijello.org/Volume3/IJKLOv3p057-072Parker284.pd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gers, E. (2003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on of innova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th ed.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ew York: Free Pr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luel, Y. &amp; Mazman, S. (2009). Adoption of Web 2.0 tools in distance education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Journalof Human Scien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6(2), 89-98. Retrieved from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4"/>
              </a:rPr>
              <a:t>www.insanbilimleri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5"/>
              </a:rPr>
              <a:t>/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12T07:40:51Z</dcterms:modified>
  <cp:revision>8</cp:revision>
  <dc:subject/>
  <dc:title>Web 2.0 Technology Tools</dc:title>
</cp:coreProperties>
</file>