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9A3A-EDC5-42FA-A2E4-AF1B01A66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7E04-FC7F-44E4-9376-CC12923C5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4753-52CE-47AB-BFC2-F085870FE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05E1-C080-49BE-BCAC-DAC2E03E0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A625AC-4A07-4397-BEB4-D52DB9D89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3571B3-1260-449A-B83F-6D85412A9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66AA8E-69D8-49F5-BC57-CD9EF0AD1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43362A-7559-4A10-BC6E-2FB66647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494B15-E07E-460F-BE78-CB1CCF839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3E51EA-15DF-4EC8-936A-F08B68344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F9E209-9100-474B-B571-A48AAD3F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7CDE-1D88-4352-82A7-2093D8D0A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AF35FC-23E2-47A7-BF59-0EB3360B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A0152B-2DAC-49EB-B1C6-83F5CAFC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880F30-7765-4B9C-BB92-B8D03FEB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D9866E-4604-40D7-88AE-7B3E1EEE6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96EDBA-B124-46BD-A3AF-B4AF39771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2344-F6F2-4DA7-BDB4-19E28A88F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AA4C-E0E2-4589-8709-BF97C5E0B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2866-D9D5-4D31-B2BA-BCD19FBAA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92A7-CC98-46A8-8D54-26EB194D0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A05E-BFFB-4C81-91BC-2C0F4809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4570-0C7A-458A-9EA8-D22CAFF9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681D-7489-4535-8095-13C3838B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FEDCE-5540-4730-AD4F-37CD1D60E8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31FEB-8381-47F8-999B-A43E03C5B2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eb 2.0 Technology Tool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 Curv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 Dona Sis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DUC 884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 Curve of Innovation Adoptio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Wiki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1828800"/>
            <a:ext cx="7467480" cy="480060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06:40:38Z</dcterms:created>
  <dc:creator>dsisk</dc:creator>
  <dc:description/>
  <dc:language>en-US</dc:language>
  <cp:lastModifiedBy>dsisk</cp:lastModifiedBy>
  <dcterms:modified xsi:type="dcterms:W3CDTF">2010-04-28T02:06:01Z</dcterms:modified>
  <cp:revision>10</cp:revision>
  <dc:subject/>
  <dc:title>Web 2.0 Technology Tools</dc:title>
</cp:coreProperties>
</file>