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1CE-3BB5-4C38-9EAF-444BE8E5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EF9-4BB2-4A63-9B91-5316B649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D3C-D5F4-4730-B64F-E480B650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1DE-54AD-4AC9-8163-C60E6DDC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729B9-0C13-46FF-821D-7A796BD2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3921D-22AE-4A20-BF56-25146F11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0D64E-D40E-4990-AC76-95456D3F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63E13-F633-47B6-B470-43596B48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FF436-8545-4EA8-B94B-99F64DEF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53907-8592-4DD8-B16A-9549460E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D1184-B7EE-4759-9055-1F208611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366-CDCA-4090-961E-287EB243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20CF1-3AC8-4DAC-B934-4EB1CA02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41DC6-9777-41BF-A142-F7BDDF44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B7353-782A-411F-B222-DE5D2642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D3B90-9044-41E1-824B-B29DBF0E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B6608-4F8B-45DF-8CB5-277D6E71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FA3-F440-47C6-9EF6-1821BDF6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DBF-EBD1-4E74-8FC5-25E995ED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958-A2B8-4636-875E-20DF334A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D08-1AD7-4DB0-8831-CFB34026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F77-E85B-420F-A7D1-4DE39C0E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412-33E8-4C5E-B438-DEC78C97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814-75A8-41D4-95DB-09BDCBFB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F01A-E9D9-4E37-98B3-D318EB6AF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26D6-5723-496C-9079-C40801200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 Cur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Curve of Innovation Adopti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Wik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7467480" cy="48006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4-28T02:06:01Z</dcterms:modified>
  <cp:revision>10</cp:revision>
  <dc:subject/>
  <dc:title>Web 2.0 Technology Tools</dc:title>
</cp:coreProperties>
</file>