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2A31-5584-42EA-8B2E-1F25C017A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56F6-5AE0-47F5-9218-A6074942C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E325-7D75-4BF6-8EE9-01632E12E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0A08-34D6-4D02-BB3F-042CAE105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A17E6C-D0D0-47DD-8D12-E975E64AC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6CD767-D7B4-41D3-8A64-39BD947F0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975A5E-486D-403D-B772-5850A96E0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CA1788-6903-4647-8DB7-0208AA961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8D0BBE-082A-4A68-A0CA-66A6336FB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11E051-E2CE-4940-A8D8-1524BF2A2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37F62B-F26F-4D63-BF7F-DAB4846AE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B9E7-D2A0-4F94-99F9-03865A77F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B8FCBB-D852-4025-942B-91E174271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465C20-7D19-4F8E-8A2A-0A459D5A1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A95E0E-3E79-44CB-9FE7-64D6AC2A5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8A0374-944B-4385-994B-531FA8423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9A573A-5E28-4726-A139-6ADFD8E98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717F-7E2F-484D-AEA4-910C46CFA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1918-7B64-43D5-A240-91E1E048E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6CED-F502-443C-AA74-7D44418DA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B2B3-B4BD-4A85-87A3-4EC3F7AC6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383E-11D7-45A6-AE87-460356855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64B3-828D-4E3B-8BF5-6AB4438A3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DEC6-A071-452D-BE68-3D5CB09CC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691E2-E421-41A8-93FC-747C35DC5E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6EBD8-4880-42DC-9482-5E825F9D9F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eb 2.0 Technology Tools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 Curv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y Dona Sis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DUC 884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 Curve of Innovation Adoption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Wiki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1828800"/>
            <a:ext cx="7467480" cy="4800600"/>
          </a:xfrm>
          <a:prstGeom prst="rect">
            <a:avLst/>
          </a:prstGeom>
          <a:ln w="9360">
            <a:solidFill>
              <a:srgbClr val="ff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2T06:40:38Z</dcterms:created>
  <dc:creator>dsisk</dc:creator>
  <dc:description/>
  <dc:language>en-US</dc:language>
  <cp:lastModifiedBy>dsisk</cp:lastModifiedBy>
  <dcterms:modified xsi:type="dcterms:W3CDTF">2010-04-28T02:06:01Z</dcterms:modified>
  <cp:revision>10</cp:revision>
  <dc:subject/>
  <dc:title>Web 2.0 Technology Tools</dc:title>
</cp:coreProperties>
</file>