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15F-1B9B-4BF6-AE51-FCB3CE93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456-BC9B-4E72-B817-E8055AE5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B23-0219-4EE8-A091-8F6D885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EF2-7359-4640-BA60-28CE7DBA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D3A77-6714-4DDD-9336-1E845DE9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73CA8-3F12-4AA5-AEA0-8F9F914A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AC0FB-A6C0-4B7F-BF00-EDC8D38D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A2E89-E6DF-4B6B-AEF8-7F321DEC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5FE60-1D61-4610-92A2-05135E40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737FA-6BB6-4309-B1BD-6DB6886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8E990-8A02-48A4-8172-289E5AF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E21-AB2E-4FAF-BE51-B271CAFD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87AB7-6C2F-458B-B4BF-1D309A7D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16873-B7FA-44D7-8CF8-92C83AF4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C0F35-F3BF-4F4C-881E-61BE0218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C9D30-5BA7-48D6-A233-CA1DDD94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28F79-8ED8-4739-83DB-89BA8CC5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0B3-D328-4A65-9366-8F318E2B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24C-EDC5-4A72-BBF3-BE525905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F6E-D86E-4999-98D2-6A968F73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B47-E8DA-47E1-8EB4-3B8A1B64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099-1F10-4D61-8DF0-EDA1799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A9C-B404-4122-9A58-0CF9B9F4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1C7-5C90-4084-80B0-F015967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D882-4820-40A3-A433-B469021B5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3993-03AE-4A89-9707-64D270868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 Cur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Curve of Innovation Adopti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Wik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467480" cy="4800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28T02:06:01Z</dcterms:modified>
  <cp:revision>10</cp:revision>
  <dc:subject/>
  <dc:title>Web 2.0 Technology Tools</dc:title>
</cp:coreProperties>
</file>