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923-47F8-4B92-9054-C006C900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E67-528A-4F07-BAF1-6E418506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A12-0BC8-480D-9CD4-61E291B3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64E-4734-4407-BB5F-E4349A5B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8C5A1-0FF3-4BF0-99B7-ECD5ADB0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EDE8B-3387-42C8-A6F3-F7AC8D30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391CD-6188-4001-9226-7418D703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4D3D0-C90F-4167-A649-8C9CE6BD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B662A-F138-4D56-A4D5-84FAA5DC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7A19E-C392-4B6E-86EC-91A36297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A8385-7541-4BFF-9A80-A55236CD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1AC-B168-48A1-80FD-BC44881F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1E35B-A214-4A42-9539-3B89B6A1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2F7E1-73E7-427B-951E-F145FC46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7DB80-8753-478A-8A9F-CE4C74AA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BFB30-5092-410A-B559-4D1CD157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68FF8-3799-476D-8A9A-8A15625D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C4D-480B-45D4-ABDA-7F31FE1A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F17-AB39-4B8F-9922-72D96B7D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080-6C1A-4E4C-A8E2-0A0F6A34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A8D-EC44-4E41-8E39-5C81636A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464-EC60-4F0C-9117-177127F2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30E-C396-4376-9298-1E2356C5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106-4902-4E42-A00B-F2EA6EA1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2E5C-FE0E-4E1F-891A-309334531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77F4-CEEF-472D-99E8-DA9D9A52F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novators and Early Adopters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tea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nger newer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iculum develop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savvy student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rategies for Adoption of Innov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31237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raining and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to stand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 data to support learning bene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 Adopters and Lagga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lder established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eachers uncomfortable with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tudents uncomfortable with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dministrators hesitant of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ies for Adoption of Innova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or assig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raining and supp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ime to develop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iculum and activities developmen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s for Reaching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for Innov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71440" y="3047760"/>
            <a:ext cx="4800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Advan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alabil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Advant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Writing Stand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Learning Mod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Learning Perspectiv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lexit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120" y="3428640"/>
            <a:ext cx="6629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ly Short Learning Proc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use and modif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can be sca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iala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3124080"/>
            <a:ext cx="7696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ion can be limited at fir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ly adopters can be mentors for later adop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ability to individual academ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11T06:11:23Z</dcterms:modified>
  <cp:revision>15</cp:revision>
  <dc:subject/>
  <dc:title>Web 2.0 Technology Tools</dc:title>
</cp:coreProperties>
</file>