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E22-87AD-4131-97B5-5D973166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425-4E77-4452-AB13-4529F2A5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052-E8F7-41AD-A0A5-238AB042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2DD0-C9E5-4007-971D-9ADA5AA7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49299-2518-4652-A26F-F4FE8823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A8F7E-B67B-4E13-923F-3C8739A6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2AA3C-25CB-4BAB-B29E-BF137462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819D9-7436-410A-A8F1-7363F3B6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B3C83-BD8A-4E4A-BAFD-D330A2AC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68C69-7C4E-4A9B-A7F2-635D8DEC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C9BD2-101B-4319-91DB-83F52C85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E93E-495C-418C-9966-E632AF5A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F54A4-6C5E-4089-80F0-59397C4E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DCB29-D7E5-440B-8A6C-EF39D1BD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0DC95-5A42-471C-8DE8-101B2CB3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C7430-2CF9-4113-8EA9-ACAE25AB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BB276-2131-4B74-826F-B08F035D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1A7-BB9F-4174-AFAC-9231319A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D1C6-2F83-4961-9751-D92241B9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8E0B-2BFD-4EBE-9B77-816A3A3C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54B3-39A8-4103-9F7E-36D236EA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0BD-2067-471A-A36C-6C64F0B4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A8AD-81A3-4609-B806-0C4E94F7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A764-C453-4450-8062-67E55402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80BB-FA0D-4E01-8B0A-BF284D6E1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93E0-E59B-49A3-8BE6-EC5A9C33A4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novators and Early Adopters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2514600"/>
            <a:ext cx="6019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ogy teac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nger newer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iculum develop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ogy savvy student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rategies for Adoption of Innov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31237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quate training and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 to standar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arch data to support learning benef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 Adopters and Lagga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259092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Older established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eachers uncomfortable with technolo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tudents uncomfortable with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dministrators hesitant of chan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egies for Adoption of Innovati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or assig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quate training and suppo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quate time to develop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iculum and activities development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s for Reaching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Mass for Innov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71440" y="3047760"/>
            <a:ext cx="4800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Advan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x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alabil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Advantag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7315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Writing Standar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Learning Mod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Learning Perspectiv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lexity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120" y="3428640"/>
            <a:ext cx="6629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ly Short Learning Proc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use and modif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can be sca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iala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3124080"/>
            <a:ext cx="7696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ion can be limited at fir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rly adopters can be mentors for later adop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ability to individual academ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5-11T06:11:23Z</dcterms:modified>
  <cp:revision>15</cp:revision>
  <dc:subject/>
  <dc:title>Web 2.0 Technology Tools</dc:title>
</cp:coreProperties>
</file>