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3CBE-75C3-47D0-97E6-BC08E937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109E-4EB5-49DE-B97F-35A1012E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3793-C632-46F2-A7B9-41A648062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DC17-370E-4A57-9C1C-B0081287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43021-375D-44E7-AAC8-D336843D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A41F2-A1AC-4D87-B622-4BE58D90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292EC-7941-4E17-B85E-BE7C7F91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1FF38-E355-496C-8927-59722C7B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915FC-7CAA-410D-88B2-8BE25F04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3D4CF-EA88-4261-B1AA-4A18533F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5B521-B438-4888-B8AA-EF5AA9D2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C980-9AC4-4617-AD74-D5AA69B7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C0722-C794-4561-A219-FB6941EE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55954-B9C7-410E-AFF8-1031A3F6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6D5A3-E09B-4CB7-B2A5-726F74C0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F981D-4319-499D-A802-2278BE4BA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C8146-B90B-4EFD-B31C-360EBCDCC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5CDB-FED8-46FE-A2DA-06F823A0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FA55-63EC-4D8E-8837-E53C36AF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ED87-D9D1-4DED-99EB-57693F53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4E80-DFD0-4142-B07F-245A1908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976C-28C2-4F1D-993E-CBF49F05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1EA0-47E1-4227-B7B1-3D7321AE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11CF-F62C-432F-BB9A-DEA4C580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FC39-C1B8-4E35-A8FD-AB43EA8B61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0175-D057-4EB2-A0BF-DE36C4AC9C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b 2.0 Technology Too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Dona Sis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UC 884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ntralized or Decentralized Approach for Adoption of Innovatio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2514600"/>
            <a:ext cx="6019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ralized approach targeting director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ralized approach targeting department chai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entralized approach targeting teach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ey Change Ag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057040" y="3581280"/>
            <a:ext cx="5257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artment Chai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e model teach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ology savvy 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Agents Ro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297180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stablish informational exchange network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Influence behavior chang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Reinforce behavioral chan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stablish process for problem resolu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Critical Ma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251424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mass attained in private and business domai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e innovation to department chai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e innovation to science and technology grou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ole of Champ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gnize the need for improvement and communicate those needs such 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mprove writing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mprove collaboration skil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mprove critical thinking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mprove technology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ole of Champ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and communicate how the use of wikis meet those needs such 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provides opportunity for writing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provides opportunity for collabor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provides opportunity for critical think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le increasing technology skil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06:40:38Z</dcterms:created>
  <dc:creator>dsisk</dc:creator>
  <dc:description/>
  <dc:language>en-US</dc:language>
  <cp:lastModifiedBy>dsisk</cp:lastModifiedBy>
  <dcterms:modified xsi:type="dcterms:W3CDTF">2010-05-30T19:01:59Z</dcterms:modified>
  <cp:revision>20</cp:revision>
  <dc:subject/>
  <dc:title>Web 2.0 Technology Tools</dc:title>
</cp:coreProperties>
</file>