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080-BBE3-441F-A607-4FE5487E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FEF-B5BD-4BBF-A414-D1D1DFEC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671-F211-4D5D-AF74-A1B87D2D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4B6-54C0-4995-B43C-D3889151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FAB57-40DB-411C-8FB4-99346FEA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93F77-5A5B-40F5-9C3D-5B1B5C6F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44CCE-842E-488D-9EF3-F0934373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C6E3D-D474-47FD-8411-3F6F9E1A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0C075-2569-4F0B-B730-C1C03193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EF7B8-B41D-4E75-BB76-2766054A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913C5-02E9-4327-BE60-56204B8F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C5B-BC58-4191-AA18-3D2B85E1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FBB12-EBDE-4178-85EA-2A6D514A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496AD-B50C-4081-84D5-15EC05F9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63EE7-7067-41BF-9DCB-09319093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626AE-D42C-4521-9578-6359F1BE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1A3DA-95C1-4CE8-AF03-F573714C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95B-B3AF-4C29-A659-DDF4D720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D3F-4C02-4EEF-8729-14F3066D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1E8-CBCE-497A-850C-76229AFD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29B-91FB-4B9F-84A1-973BDFD0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AD9-7DA4-4D8E-BC81-34BFD6A9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4D4-0EA3-47A3-9771-2C4DA2BD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621-253C-4CFE-8A7F-226A003E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EB4D-F8AD-4F3B-9E58-41EBDD1AF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5CF1-0CC4-4C16-AABB-5C87486C7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ntralized or Decentralized Approach for Adoption of Innov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irec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ntralized approach targeting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Change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358128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C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model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avv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Agents Ro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971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informational exchange networ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fluence behavior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inforce behavioral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process for problem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Critical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attained in private and business doma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science and technology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le of Champ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ze the need for improvement and communicate those needs such 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writ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collaboration skil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critical think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technology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le of Champ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nd communicate how the use of wikis meet those needs such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writing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collabo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critical thin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increasing technology ski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30T19:01:59Z</dcterms:modified>
  <cp:revision>20</cp:revision>
  <dc:subject/>
  <dc:title>Web 2.0 Technology Tools</dc:title>
</cp:coreProperties>
</file>