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2AC-8CBE-4487-8518-719F408A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183-DFFF-41BC-BBBA-78E3A31C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7CD-F925-444A-91CC-D225EE89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621-ABA9-4F10-A600-D892D9BF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2CC84-3A35-4AA6-BEC1-48C4D096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89C4A-E5ED-4E1E-A3BD-E7EADE8D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A861F-61A6-4FAF-B4D8-972FBC84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EE963-390F-41B7-8F9A-97570E3E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5978D-BFCF-4C05-B08A-60D1A9F8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39484-D484-4711-95EB-E893DEEA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33E4D-B2CE-447F-B32E-6DE24A5C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DE8-3981-4EF3-8E0E-2BAF748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EC22D-C5B7-496D-99A1-BC7AD7D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051CE-FB13-4573-8FAC-8CD23FE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ACE2D-3DA7-4D8B-AB9A-0BF64268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F270E-FAB0-4B28-9535-6B2DA0E3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15664-09F4-4655-84AF-EEDA4003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3235-9157-47C4-9A80-362AF2D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2A3-C64B-48E9-B236-3CA9BA8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DDE-0C6E-4229-9880-2627EEF0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A4E-D026-4267-B139-E8C06C44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888-776D-40B2-BA7F-56D40637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168-6C56-44B1-8BAC-943F374E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CFE-BB84-499F-B1A8-48E83A72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62E4-69C4-466A-97AE-B578C832B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846E-B814-467A-8DCA-C8A9F8324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need for improvement and communicate those needs such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writ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ollaboration ski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critical think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mprove technology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le of Champ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communicate how the use of wikis meet those needs such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writing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ollabo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vides opportunity for critical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increasing technolog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30T19:01:59Z</dcterms:modified>
  <cp:revision>20</cp:revision>
  <dc:subject/>
  <dc:title>Web 2.0 Technology Tools</dc:title>
</cp:coreProperties>
</file>