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498B-4A65-4929-B725-817CEC2F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C7B-B0A6-45F7-9ACB-77665072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702-72E0-46A1-9FE0-E9B795B9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556E-40AA-4769-B24B-87C05DF2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4EEE4-A0F1-45EC-A357-B3ACBD81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40C54-C4D8-42FA-A160-407E7FC6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23959-35D7-4D8E-AE91-588A90CC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C02C0-7D96-4BE6-A3A9-289ABC65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6C304-BC1D-4936-8147-3803142E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026E0-19AC-41B9-9DE8-ABB01E6B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A8A38-CC38-4EEC-B561-0FBBBAE7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303-E2E6-4BB3-95F1-CD39F932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DD63F-2425-41BA-AE86-EC0DFFC0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56D49-413F-4CD3-B01F-EEBF6C6B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FC6AB-0C96-484B-A4B5-F2F9BC6C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BD0A5-0B56-4D84-9FC8-EC02F55B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8C37F-82B8-4142-87F2-1C144D35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29E-E1C1-4CC5-BAC4-FFAE714F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366-BB00-4734-A847-BF2870F2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A4F-66B4-488E-8AAF-EACAEA2B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9F4-EFE0-4AA1-A950-2EA9F52B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5C1-8D61-4FE8-9FB7-79DEC953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B69-A41E-402F-9084-BA06F72F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4B1-80EE-412E-9B0E-AAAE15C2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8526-1A3B-4779-825C-8AD40025F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A4E8-B8E3-4309-AB77-C082D4B8A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ntralized or Decentralized Approach for Adoption of Innovati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irector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entralized approach targeting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 Change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040" y="358128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artment Ch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model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ology savvy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Agents Ro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9718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informational exchange networ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nfluence behavior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Reinforce behavioral ch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process for problem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Critical M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mass attained in private and business domai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science and technology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5-11T07:29:33Z</dcterms:modified>
  <cp:revision>19</cp:revision>
  <dc:subject/>
  <dc:title>Web 2.0 Technology Tools</dc:title>
</cp:coreProperties>
</file>