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20B-EFB6-456A-80C7-8090FD3B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24A-DCAA-4C94-B36C-9AF5C997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27F-BC4C-4293-AD98-CEC0D735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9F9-2F68-4567-A99E-F5CBC64A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29148-EBE1-4F59-B4C9-A5F8215D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934BC-C3DB-49BE-AE3D-43EBE94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1FA2D-054E-4DD0-9C0D-24BA838B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D3EA-F7ED-4CF3-B5A8-63BEAFE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EF1E0-9BF3-46FC-BEAB-AA609D0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FA29-765C-4EF7-A477-109733C6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8379-0E9D-48D9-9092-DF78D89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439-1908-4731-BFCA-C3555C8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B458-B1B4-41D4-B9FE-988B155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41030-8E3D-46B1-B855-E6806209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D5B48-32EF-4E12-95D1-72CC4A0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C09B3-E4AC-4B55-92A2-A2231629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6C617-1165-40FF-976B-78D81BB0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511-B9F8-4754-A02B-6B0DDBB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5A7-4E98-4FDB-A3C3-CF48B439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F54-701C-45B7-9BC6-4663792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4FE-B163-41E5-A1C1-2614AB5A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CB9-61CB-477B-87AE-6893F9E3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900-8718-448B-942F-F3A438B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AB9-A643-4C30-B0D1-C672548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C2F5-15CA-4E47-8468-3B7BC0E45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6755-09F9-4B34-B012-6A97CB49D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7:29:33Z</dcterms:modified>
  <cp:revision>19</cp:revision>
  <dc:subject/>
  <dc:title>Web 2.0 Technology Tools</dc:title>
</cp:coreProperties>
</file>