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5BE-25B8-4B66-A8D5-310CCCE5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C51-4F63-4039-A891-F0A88D8E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36B-1B16-48EC-9652-69FBF2AF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F07-7C18-4BA6-B337-31234003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71747-7EC8-4ABB-90F0-41626ED4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B77D4-A530-47E3-A4C5-F95B25F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9246E-B578-4C45-8B66-E3FF8D01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B4D86-A6A3-48FD-A0D4-7136E1FA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1C37B-760D-4B6C-ADE7-BD78F818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BE1B2-A455-44CD-BB1D-6591584E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03058-9A0B-4403-8771-DBD122F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268-FE9A-40B2-B059-7177D63F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53092-336B-4F46-B1F6-79040AA8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AE13F-857A-499B-88D3-CE1C833E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BF97A-7579-4696-B64B-91A39881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53948-3D39-411C-B8E7-39B5B967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F4757-2C10-4148-8DD7-DECC89B6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DB0-8156-42D1-86F4-22600090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E35-C154-4F15-945A-D7B0A7FD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8C6-541B-41BB-96F0-2257F4B5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108-3B99-4F3D-8C35-8CFF5D38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154-2667-4FDF-837C-759E8B4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405-8C38-4E78-A17E-55503106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6E5-9631-4979-B89C-ACCB9F62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D62D-5C33-4D33-A574-B7007DDC0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B3B0-7748-4AEE-9A62-9A4F6A0E6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ntralized or Decentralized Approach for Adoption of Innov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irec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ed approach targeting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Change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C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model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avv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Agents Ro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informational exchange networ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fluence behavior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inforce behavioral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process for problem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Critical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attained in private and business doma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science and technolog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11T07:29:33Z</dcterms:modified>
  <cp:revision>19</cp:revision>
  <dc:subject/>
  <dc:title>Web 2.0 Technology Tools</dc:title>
</cp:coreProperties>
</file>