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1DB-7EA4-459C-BFC1-4EA52FDD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8ED2-EF1E-41BB-8FA1-6B7CEE10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11FC-E4F1-4C42-B493-E8DDCDA2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9A21-2EE9-4D63-9A16-D7822C51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55832-08B7-40B7-8A24-B7F2D19D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64561-F894-45F4-9EE5-3051276D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2D21E-0E9C-490C-86A1-D9EAC447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CD77D-FC20-423F-886A-8B915AE5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A4ADC-3D60-443D-8666-8F5C5DB1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C6E55-1B6A-45B6-A5D6-35083608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0340B-2A99-4E31-94A7-5FF91682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0D05-D549-497B-89CF-10CB60DF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3F064-0CBD-4BAE-83A7-1421D6EE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91AA5-4B01-45ED-945B-D5FE47AF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AE25C-30C3-47B1-9E3B-54985718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197A6-AE1A-49BA-87C9-7D9817E0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E3826-ADF0-4CC9-B171-F6DE1B03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BB49-0AFE-4AEB-944C-231521E9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D169-3085-482F-9052-1041696C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FBBB-8589-42D3-ADE0-BB42C4E0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CEF7-B827-4C1B-8794-A37AA16D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2439-FFDC-48C3-A0D3-547D6A21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57C5-52C0-4A94-9397-B4F6167A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F263-7104-4781-8315-4002AFEC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9048-8FEE-4D57-84F2-1B90727352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B332-CEF2-4420-9720-ED8190D0B6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b 2.0 Technology Too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ona Si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 88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ntralized or Decentralized Approach for Adoption of Innovatio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2514600"/>
            <a:ext cx="6019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ralized approach targeting director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ralized approach targeting department chai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entralized approach targeting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y Change Ag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057040" y="3581280"/>
            <a:ext cx="5257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artment Cha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e model teach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ology savvy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Agents Ro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297180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stablish informational exchange network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Influence behavior chang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Reinforce behavioral chan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stablish process for problem resol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Critical Ma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mass attained in private and business domai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e innovation to department chai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e innovation to science and technology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6:40:38Z</dcterms:created>
  <dc:creator>dsisk</dc:creator>
  <dc:description/>
  <dc:language>en-US</dc:language>
  <cp:lastModifiedBy>dsisk</cp:lastModifiedBy>
  <dcterms:modified xsi:type="dcterms:W3CDTF">2010-05-11T07:29:33Z</dcterms:modified>
  <cp:revision>19</cp:revision>
  <dc:subject/>
  <dc:title>Web 2.0 Technology Tools</dc:title>
</cp:coreProperties>
</file>