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F391-E30A-4338-91E5-0953CD41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3A33-BCCD-4FA3-8C40-EEA0B3E0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CABE-30D9-46A5-96A6-28F5F1B7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B0B5-E469-4C67-B5C9-FF642930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6840E-CE38-4F47-8255-4DA293BC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884A6-089B-4AF1-BF62-08F82DC8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E9618-977F-4E64-BE18-B8097C52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20A3F-9EE0-4194-81F3-C990898F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7BA2B-A4F6-4936-A44C-FD3F7DCF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D3ED3-D134-45C9-ADB8-AB3B37C2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D3ADB-4ACC-4B07-869A-8680EA58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0EFB-C2D6-4FE2-B204-C5558D15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41A8F-D1FA-4745-B836-9E8D98C2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1640C-7159-4F86-A64E-338F14D7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25AA5-EFC5-4FFF-B0B1-1B8F01F5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7027D-7858-4AE0-91C6-49727A82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2C01F-14BC-4C85-B222-42C14F73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C4C7-55A0-4B99-8E64-DD27AF6B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586C-7D68-41DB-A830-06BD0535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1835-C158-4385-B646-47432162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3B71-79F6-471E-B924-7651377D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4DF8-7656-4CE2-BA36-66076687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1107-6CB4-425C-BD7B-4D005DDB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D5AE-20B9-4F26-AC31-4B5DDC4A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8998-16C9-4982-BC3A-DD486F041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2336-4674-4A56-81FF-4B157CA7CD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jello.org/Volume3/IJKLOv3p057-072Parker284.pdf" TargetMode="External"/><Relationship Id="rId3" Type="http://schemas.openxmlformats.org/officeDocument/2006/relationships/hyperlink" Target="http://www.insanbilimleri.com/en" TargetMode="External"/><Relationship Id="rId4" Type="http://schemas.openxmlformats.org/officeDocument/2006/relationships/hyperlink" Target="http://www.insanbilimleri.com/en" TargetMode="External"/><Relationship Id="rId5" Type="http://schemas.openxmlformats.org/officeDocument/2006/relationships/hyperlink" Target="http://www.insanbilimleri.com/en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Wikis and Blogs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2743200"/>
            <a:ext cx="6019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er-to-peer collabo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-oriented learn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nection to community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meaningful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unctionality in the Classroom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student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3733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ity with technolog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t in utilizing technolog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 skills needed for online collabo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arch shows…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es interaction and communic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luel &amp; Mazman, 2009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of most important ways of obtaining effective outcomes with technologies is individuals’ acceptance and usage of technolog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luel &amp; Mazman, 2009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kis are beneficial in enhancing collaborative work situations among stud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hao &amp; Parker, 2007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riers in the classroo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acher uncertain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ining time and effor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ychology of online behavior in classr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o, J. &amp; Parker, K. (2007). Wiki as a teaching tool.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disciplinary Journal of Knowledge and Learning Objec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3, 57-71. Retrieved from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2"/>
              </a:rPr>
              <a:t>http://ijello.org/Volume3/IJKLOv3p057-072Parker284.pd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gers, E. (2003)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usion of innovatio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5th ed.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New York: Free Pres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luel, Y. &amp; Mazman, S. (2009). Adoption of Web 2.0 tools in distance education.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Journalof Human Scienc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6(2), 89-98. Retrieved from: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4"/>
              </a:rPr>
              <a:t>www.insanbilimleri.com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5"/>
              </a:rPr>
              <a:t>/e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4-12T07:40:51Z</dcterms:modified>
  <cp:revision>8</cp:revision>
  <dc:subject/>
  <dc:title>Web 2.0 Technology Tools</dc:title>
</cp:coreProperties>
</file>