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FE8-60FF-477E-BB8F-16A1FE34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0D5-D889-420A-A767-344C5EA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C0A-1DD3-4608-B61B-C680BD94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2BD-6DFF-4980-895F-3FBFE293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41BEC-BEC2-4E5E-A528-1374B3B2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D90D4-3858-49A2-AAEB-59197F2A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B32BA-7A48-4F54-9D40-D52D4C52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89E36-2FA9-42F8-B823-43222919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80D37-1A51-4442-803C-4C0D5087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30857-256C-440C-B6F7-2353065A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6A4E0-9A77-4EC1-AAC4-BB35C9CA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543-3002-49C6-8E79-EE09BA15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97F7E-C239-408D-A518-6CB9723A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52BCB-2BF5-42AC-A077-2519CC50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32043-3E73-4F17-8DEC-635BDD4B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D4A88-9F31-465A-ADB5-C6C6D846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5903B-BF3D-4472-A471-12FA505D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3E8-090D-44DF-BF7C-63D9EE29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E7C-1D8C-468C-9D4A-6E2959E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B0E-5D96-43F2-BBE4-50AB4496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04E-71F1-47D4-8E57-43211B1B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D56-2AF8-4406-B2CD-8C7C0592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120-EBFB-4FC7-9CFF-64CF47B5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70C-7E18-4110-97B5-4A434E23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ABB5-C674-466C-AFBC-2A0ED9AC3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B12A-6B23-4F78-A488-49A2B5044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jello.org/Volume3/IJKLOv3p057-072Parker284.pdf" TargetMode="External"/><Relationship Id="rId3" Type="http://schemas.openxmlformats.org/officeDocument/2006/relationships/hyperlink" Target="http://www.insanbilimleri.com/en" TargetMode="External"/><Relationship Id="rId4" Type="http://schemas.openxmlformats.org/officeDocument/2006/relationships/hyperlink" Target="http://www.insanbilimleri.com/en" TargetMode="External"/><Relationship Id="rId5" Type="http://schemas.openxmlformats.org/officeDocument/2006/relationships/hyperlink" Target="http://www.insanbilimleri.com/en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ikis and Blog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27432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er-to-peer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-oriented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ion to communit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meaningfu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ality in the Classroo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tud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ity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 in utilizing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kills needed for online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shows…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interaction and communi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most important ways of obtaining effective outcomes with technologies is individuals’ acceptance and usage of technolog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kis are beneficial in enhancing collaborative work situations among stud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ao &amp; Parker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iers in the classroo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er uncertain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time and eff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y of online behavior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o, J. &amp; Parker, K. (2007). Wiki as a teaching tool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disciplinary Journal of Knowledge and Learning Objec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3, 57-71. Retrieved from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2"/>
              </a:rPr>
              <a:t>http://ijello.org/Volume3/IJKLOv3p057-072Parker284.pd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gers, E. (2003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 of innov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th ed.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ew York: Free Pr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luel, Y. &amp; Mazman, S. (2009). Adoption of Web 2.0 tools in distance education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Journalof Human Scien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6(2), 89-98. Retrieved from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4"/>
              </a:rPr>
              <a:t>www.insanbilimleri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5"/>
              </a:rPr>
              <a:t>/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12T07:40:51Z</dcterms:modified>
  <cp:revision>8</cp:revision>
  <dc:subject/>
  <dc:title>Web 2.0 Technology Tools</dc:title>
</cp:coreProperties>
</file>