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DF7-03D3-4838-9F44-D0B93BB6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66E-C9E8-479B-AFC1-9C51E8C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287-C2C1-4D64-9B24-4F89FBD6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DB2-39D2-4BF9-B705-E7B3906B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FC846-98CC-41B7-BAFA-B034D8A2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8D1A-4AEF-4AB5-9B54-85C75B6F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BBD1A-ACFC-4252-B39F-0D4955B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3AFBA-E3C2-47EA-916E-37FA1CDE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8D0F6-F046-435C-AEF7-F5AEAF80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3A614-053F-4177-9534-10F1468E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2F2BF-935E-4E98-8FE6-BA6E1A3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664-B089-47A9-A262-F462BF9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C9C04-800C-4E72-8BF5-8EA3D81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6BB71-8C3F-47B9-ADF7-16A8643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11F07-FC88-43C6-9004-28714CC8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76619-EC25-459F-A8D3-EFCD1B55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6A882-39D6-4DAA-A0BF-88EF647D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FE3-4462-4CBB-9D19-FE169898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064-6197-4E20-A18B-B20B669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C6D-8021-41A7-8A1B-6BFE5353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BE6-BE79-49C8-8A05-744AE13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4A0-68E0-4DD7-8D17-BBD3083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D71-4DC1-4D4A-BEE7-E301F629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6BD-B8FD-4C54-8B28-9BFF8DD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6456-4824-4520-BD79-C74E7595D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B96-42EC-4099-9400-8DED5F85D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jello.org/Volume3/IJKLOv3p057-072Parker284.pdf" TargetMode="External"/><Relationship Id="rId3" Type="http://schemas.openxmlformats.org/officeDocument/2006/relationships/hyperlink" Target="http://www.insanbilimleri.com/en" TargetMode="External"/><Relationship Id="rId4" Type="http://schemas.openxmlformats.org/officeDocument/2006/relationships/hyperlink" Target="http://www.insanbilimleri.com/en" TargetMode="External"/><Relationship Id="rId5" Type="http://schemas.openxmlformats.org/officeDocument/2006/relationships/hyperlink" Target="http://www.insanbilimleri.com/en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 2.0 Technology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ona Si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 88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ikis and Blog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7432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er-to-peer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-oriented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 to commun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eaningfu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ality in the Classroo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tudent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y with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 in utilizing techn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skills needed for online collab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 shows…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interaction and communi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important ways of obtaining effective outcomes with technologies is individuals’ acceptance and usage of technolog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luel &amp; Mazman, 2009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kis are beneficial in enhancing collaborative work situations among stud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ao &amp; Parker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iers in the classroo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uncertain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 time and eff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y of online behavior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o, J. &amp; Parker, K. (2007). Wiki as a teaching tool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disciplinary Journal of Knowledge and Learning Objec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3, 57-71. Retrieved from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ijello.org/Volume3/IJKLOv3p057-072Parker284.pd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gers, E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 of innov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th ed.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ew York: Free Pr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luel, Y. &amp; Mazman, S. (2009). Adoption of Web 2.0 tools in distance education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Journalof Human Sci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6(2), 89-98. Retrieved from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www.insanbilimleri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/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6:40:38Z</dcterms:created>
  <dc:creator>dsisk</dc:creator>
  <dc:description/>
  <dc:language>en-US</dc:language>
  <cp:lastModifiedBy>dsisk</cp:lastModifiedBy>
  <dcterms:modified xsi:type="dcterms:W3CDTF">2010-04-12T07:40:51Z</dcterms:modified>
  <cp:revision>8</cp:revision>
  <dc:subject/>
  <dc:title>Web 2.0 Technology Tools</dc:title>
</cp:coreProperties>
</file>