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13A-66A4-48E9-A55D-8E08C31C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089-0CFC-40CB-8798-4A84E2A7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ACE-17D7-48F7-8F63-A99336D1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2B0-15E4-4752-B973-5C33BE81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EDC0F-EBA4-4C15-B720-13F3C08C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F44CD-FC14-41BD-B3FC-ED88F5EF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BE2A9-3AE8-466F-8C3E-28F36DCE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6CA55-D115-4B9B-BFD1-3EF9D5D1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D79A8-30E6-4C7D-931A-13222C78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2A376-245A-41FB-AA4D-25C4E5AF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DDA57-0B64-4978-83AC-A1DFD8BF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8F1-A2E7-46A6-AECA-7BD5913C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ED045-42EE-4493-A81E-A89A8FBD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0595B-BE78-4226-B64F-6CAE9E44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39FF2-F68D-4E11-AE21-B6867A99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C9E82-A2AF-4803-B499-5F114A30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3B8FC-9841-48F1-8267-839D7EE3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011-9783-4A10-A29F-381A7984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046-5687-4CD7-A228-E7367587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963-7D7C-465B-8BEF-177D62E3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215-07C8-4A04-9555-C49D9295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6FB-DF7A-4997-BAC8-DC2DBE59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CA8-08A7-49FB-AE93-109C9C8D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BCB-1751-4F63-A9BF-909153A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9CD8-4212-400F-B19B-1053CC4D7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BF43-BDD3-48C2-AEFA-346DACE9A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jello.org/Volume3/IJKLOv3p057-072Parker284.pdf" TargetMode="External"/><Relationship Id="rId3" Type="http://schemas.openxmlformats.org/officeDocument/2006/relationships/hyperlink" Target="http://www.insanbilimleri.com/en" TargetMode="External"/><Relationship Id="rId4" Type="http://schemas.openxmlformats.org/officeDocument/2006/relationships/hyperlink" Target="http://www.insanbilimleri.com/en" TargetMode="External"/><Relationship Id="rId5" Type="http://schemas.openxmlformats.org/officeDocument/2006/relationships/hyperlink" Target="http://www.insanbilimleri.com/en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ikis and Blog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2743200"/>
            <a:ext cx="6019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er-to-peer collab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-oriented lear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ion to community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meaningful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ctionality in the Classroom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student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ity with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 in utilizing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skills needed for online collab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 shows…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s interaction and communic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luel &amp; Mazman, 200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most important ways of obtaining effective outcomes with technologies is individuals’ acceptance and usage of technolog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luel &amp; Mazman, 200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kis are beneficial in enhancing collaborative work situations among stud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ao &amp; Parker,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iers in the classroo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cher uncertain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 time and eff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y of online behavior in class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o, J. &amp; Parker, K. (2007). Wiki as a teaching tool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disciplinary Journal of Knowledge and Learning Objec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3, 57-71. Retrieved from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2"/>
              </a:rPr>
              <a:t>http://ijello.org/Volume3/IJKLOv3p057-072Parker284.pd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gers, E. (2003)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ion of innova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th ed.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ew York: Free Pre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luel, Y. &amp; Mazman, S. (2009). Adoption of Web 2.0 tools in distance education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Journalof Human Scien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6(2), 89-98. Retrieved from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4"/>
              </a:rPr>
              <a:t>www.insanbilimleri.com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5"/>
              </a:rPr>
              <a:t>/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4-12T07:40:51Z</dcterms:modified>
  <cp:revision>8</cp:revision>
  <dc:subject/>
  <dc:title>Web 2.0 Technology Tools</dc:title>
</cp:coreProperties>
</file>