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72735-0915-4174-8BCA-F7E5D877E5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1143000" y="685800"/>
            <a:ext cx="4572000" cy="3429000"/>
          </a:xfrm>
          <a:prstGeom prst="rect">
            <a:avLst/>
          </a:prstGeom>
          <a:ln w="0">
            <a:noFill/>
          </a:ln>
        </p:spPr>
      </p:sp>
      <p:sp>
        <p:nvSpPr>
          <p:cNvPr id="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aming media has not exhibited a traditional S-curve of growth and adoption—instead, it shows a precipitous vertical climb that shows no sign of leveling off in the forseeable future.  Each advance in broadband technology and mobile media provides additional viewing opportunities for streaming video and more places to place content…the result is continual growth of users and adaptors.  Basically, it is as big as the Internet and is growing at least as quickly if not more so as earlier Internet adopters get access to broadband and faster connections and can now easily stream multimedia content that was difficult to access over slower connec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45B02B-BD96-4719-9FC6-33926347BD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11880-3BF2-4B77-97DD-87070C0C8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73D894-6505-42D5-A8B4-709AE4ECE9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097E80-57E3-40A3-A816-582B2D43E0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777B9-75F4-4957-A080-48FDE62F0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4D484-3775-4A48-95B5-85423E1C9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E88DC-C4E0-4E32-AE0F-37015DCB4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D5779-0F42-4466-89A4-9128A6839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098F6-383D-49D0-A2A6-5DE4124F1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E6240-A570-4764-B8E2-5342ED640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F07AF-95C5-4CBF-B37B-F9FA8AC41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57955-36A7-49D3-89D7-FD675458CC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7CB6A-EF80-4339-85B4-A65B652F34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eaming Media Adoption Rate</a:t>
            </a:r>
            <a:endParaRPr b="0" lang="en-US" sz="4400" spc="-1" strike="noStrike">
              <a:solidFill>
                <a:srgbClr val="000000"/>
              </a:solidFill>
              <a:latin typeface="Arial"/>
            </a:endParaRPr>
          </a:p>
        </p:txBody>
      </p:sp>
      <p:graphicFrame>
        <p:nvGraphicFramePr>
          <p:cNvPr id="49" name=""/>
          <p:cNvGraphicFramePr/>
          <p:nvPr/>
        </p:nvGraphicFramePr>
        <p:xfrm>
          <a:off x="463680" y="1600200"/>
          <a:ext cx="8215200" cy="4525920"/>
        </p:xfrm>
        <a:graphic>
          <a:graphicData uri="http://schemas.openxmlformats.org/presentationml/2006/ole">
            <p:oleObj r:id="rId1" spid="">
              <p:embed/>
              <p:pic>
                <p:nvPicPr>
                  <p:cNvPr id="50" name="" descr=""/>
                  <p:cNvPicPr/>
                  <p:nvPr/>
                </p:nvPicPr>
                <p:blipFill>
                  <a:blip r:embed="rId2"/>
                  <a:stretch/>
                </p:blipFill>
                <p:spPr>
                  <a:xfrm>
                    <a:off x="463680" y="1600200"/>
                    <a:ext cx="8215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9T02:39:23Z</dcterms:created>
  <dc:creator>Anne Brooker-Grogan</dc:creator>
  <dc:description/>
  <dc:language>en-US</dc:language>
  <cp:lastModifiedBy>Anne Brooker-Grogan</cp:lastModifiedBy>
  <dcterms:modified xsi:type="dcterms:W3CDTF">2010-05-07T18:50:08Z</dcterms:modified>
  <cp:revision>5</cp:revision>
  <dc:subject/>
  <dc:title>Slide 1</dc:title>
</cp:coreProperties>
</file>