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7288-332F-4017-A1C7-9404F08AA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A909F-EF31-4447-A3DF-68C770D9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54EB-9750-44B6-8C55-8EA28071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6264-DD77-4977-8652-292860069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E6076-6557-44D7-BD54-B226726F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6432-DE28-467E-BF0B-CD08F2C9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7971F-871D-410C-9106-53EBC01AC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BE074-8078-46CA-910D-A0561868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009A4-9F1A-4261-AE46-B39CA1B59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03C0-D7AC-4218-BB26-476A6557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D94D-7757-482F-B3AE-86404816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8B1E-C65D-426C-A3CF-DB2D47CE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6F92-4F92-42B9-8C01-7DCDABCD5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4CE6-01EF-471D-949C-9ADACC39B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49" name=""/>
          <p:cNvGraphicFramePr/>
          <p:nvPr/>
        </p:nvGraphicFramePr>
        <p:xfrm>
          <a:off x="463680" y="1600200"/>
          <a:ext cx="8215200" cy="4525920"/>
        </p:xfrm>
        <a:graphic>
          <a:graphicData uri="http://schemas.openxmlformats.org/presentationml/2006/ole">
            <p:oleObj r:id="rId1" spid="">
              <p:embed/>
              <p:pic>
                <p:nvPicPr>
                  <p:cNvPr id="5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39:23Z</dcterms:created>
  <dc:creator>Anne Brooker-Grogan</dc:creator>
  <dc:description/>
  <dc:language>en-US</dc:language>
  <cp:lastModifiedBy>Anne Brooker-Grogan</cp:lastModifiedBy>
  <dcterms:modified xsi:type="dcterms:W3CDTF">2010-05-07T18:50:08Z</dcterms:modified>
  <cp:revision>5</cp:revision>
  <dc:subject/>
  <dc:title>Slide 1</dc:title>
</cp:coreProperties>
</file>