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F1F1E-7A21-4839-AA34-9E1F24C0D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ulty development activities can be shared by multiple schools at the same time, optimizing in-service days.  Additionally, these events can be stored and viewed on demand at a later date by new hires or those who were unable to attend the origin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collaboration between schools can share specialized program materials and guest speakers.  Again, these events can be stored and viewed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rting events can be “televised” and shared with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of Ed meetings can be not only broadcast live, but also stored for future viewing, giving all parents and taxpayers a chance to see what decisions are being made and how this process happ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mportantly, children with medical conditions who are out sick or undergoing extended treatments, such as chemo, can keep up with their lessons and participate along with their classmates in real-time ev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ing video files is a long, slow process: the files are large, and tend to slow one’s network and one’s computer.  Additionally, a few downloaded video files can inadvertently fill a user’s hard drive.  A large organization cannot use this method to view mandated video-based training because of the bandwidth required, which has slowed the diffusion of video for training to the desktop.  The result ends up being like Niagara Falls: big, loud, and uncontrollab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 reside on a server either on our network or on a leased server, and are accessed as needed.  This is just like the “On Demand” feature on cable or satellite TV for movies and TV shows: your choice, when you choos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streaming video superior to downloaded video is the data rate: each file is broken up into packets of data that are sent to the viewer in sequence, and the send rate and packet sizes are automatically adjusted so as to display the video on the user’s system without slowing the network or overwhelming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streaming video is carefully controlled and choreographed, just like the fountain in this video clip: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grab onto this mode of communication in order to keep pace with the rest of the world.  If you go online and visit any commercial website, you will find embedded video that is streamed to your computer providing entertainment, offers, and product informait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tainment industry has realized the value of streaming video to extend audience participation, and provides viewers the opportunity to replay their favorite episodes or participants and provide their own commentary and additional content.  24/7 news sites provide constant information flow and also provide viewers with a venue to upload their own news and content, such as the Weather Channel’s iWitness weather feature where viewers can send in photos or video of weather happening in their are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ucation world has also adopted streaming video to support on-line learning.  Asynchronous learning has become a much richer mode of delivery with the addition of streaming video lectures, demonstrations, and other added cont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and government are using streaming video to not only augment existing asynchronous training, but to provide rapid training to address safety, legal, and other concerns where extended workforces must be brought up to speed on new information quick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ing media has not exhibited a traditional S-curve of growth and adoption—instead, it shows a precipitous vertical climb that shows no sign of leveling off in the forseeable future.  Each advance in broadband technology and mobile media provides additional viewing opportunities for streaming video and more places to place content…the result is continual growth of users and adaptors.  Basically, it is as big as the Internet and is growing at least as quickly if not more so as earlier Internet adopters get access to broadband and faster connections and can now easily stream multimedia content that was difficult to access over slower connec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er (2009) demonstrated that combining multiple modes of data input (audio and video) increase retention and understanding of new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visual learners, seeing a process actually taking place yields a much better understanding of the process and its sub-par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ing video can be done easily in an educational environment.  A classroom laptop with a webcam is the most basic arrangement.  For more “formal” events where better video quality is desired, a system such as the one shown in this video clip will serve us well.  This system would cost under $500 to implement, and we already own cameras that can be used as show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BDE72-E79B-45F1-9C68-1EE701DA1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FF0DA-3FC6-4356-9FED-4C2777A70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917B6-70E6-4656-859F-FD5E19A2E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676AF-6388-4332-8828-D703331AA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0F2DC-CECF-4CCF-B612-5856B87DD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12800-AFFC-409B-9D4A-BFCF2828A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D417C-B4E8-4DA9-8A8D-EF457021B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518A3-FFB9-4F54-89BB-7D581FA96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A9D79-1993-4825-96A1-DC10976E9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AC158-1D09-4B83-98C2-9A4450693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D6DED-5F1C-45FD-8A00-E85A67C19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2BBA1-C9FA-4F86-B6DB-936588D57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5A421-0F14-4B28-8FF0-211DB9DC56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 Proposal</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ing Vide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e Brooker-Grog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ggestions for Application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ulty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collabor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ing events can be televised l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ard of Ed meet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ty of education for children with medical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ld Way of On-Line Video:</a:t>
            </a:r>
            <a:br>
              <a:rPr sz="4000"/>
            </a:br>
            <a:r>
              <a:rPr b="0" lang="en-US" sz="4000" spc="-1" strike="noStrike">
                <a:solidFill>
                  <a:srgbClr val="000000"/>
                </a:solidFill>
                <a:latin typeface="Arial"/>
              </a:rPr>
              <a:t>Downloading</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files slow networks/fill hard dr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good way to send video to all in an organization without fouling th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to the desktop is not pract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trying to control Niagara Falls…not going to happ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w Way: Streaming Vide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s reside on a 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ed on de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ates are optimized to display video without slowing th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ansfer is carefully controlled and choreograph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 Facto Standard</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ing video is being used extensively in today’s communic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tain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 and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y/Government tra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Streaming Video</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demonstr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eaming Media Adoption Rate</a:t>
            </a:r>
            <a:endParaRPr b="0" lang="en-US" sz="4400" spc="-1" strike="noStrike">
              <a:solidFill>
                <a:srgbClr val="000000"/>
              </a:solidFill>
              <a:latin typeface="Arial"/>
            </a:endParaRPr>
          </a:p>
        </p:txBody>
      </p:sp>
      <p:graphicFrame>
        <p:nvGraphicFramePr>
          <p:cNvPr id="59" name=""/>
          <p:cNvGraphicFramePr/>
          <p:nvPr/>
        </p:nvGraphicFramePr>
        <p:xfrm>
          <a:off x="463680" y="1600200"/>
          <a:ext cx="8215200" cy="4525920"/>
        </p:xfrm>
        <a:graphic>
          <a:graphicData uri="http://schemas.openxmlformats.org/presentationml/2006/ole">
            <p:oleObj r:id="rId1" spid="">
              <p:embed/>
              <p:pic>
                <p:nvPicPr>
                  <p:cNvPr id="60" name="" descr=""/>
                  <p:cNvPicPr/>
                  <p:nvPr/>
                </p:nvPicPr>
                <p:blipFill>
                  <a:blip r:embed="rId2"/>
                  <a:stretch/>
                </p:blipFill>
                <p:spPr>
                  <a:xfrm>
                    <a:off x="463680" y="1600200"/>
                    <a:ext cx="8215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lue of Streaming Video in Educational Settings</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bination of audio and moving images aid retention and understanding of presented information (Mayer,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ing a process actually take place aids in a better understanding of the process and its subset compon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of Difficult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ing Video into Educational Environments can be done easily</a:t>
            </a:r>
            <a:br>
              <a:rPr sz="3200"/>
            </a:br>
            <a:br>
              <a:rPr sz="3200"/>
            </a:br>
            <a:r>
              <a:rPr b="0" lang="en-US" sz="3200" spc="-1" strike="noStrike">
                <a:solidFill>
                  <a:srgbClr val="000000"/>
                </a:solidFill>
                <a:latin typeface="Arial"/>
              </a:rPr>
              <a:t>Can be accomplished with minimal hardware purchases, as shown in this video:</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Streaming Technology</a:t>
            </a:r>
            <a:endParaRPr b="0" lang="en-US" sz="4000" spc="-1" strike="noStrike">
              <a:solidFill>
                <a:srgbClr val="000000"/>
              </a:solidFill>
              <a:latin typeface="Arial"/>
            </a:endParaRPr>
          </a:p>
        </p:txBody>
      </p:sp>
      <p:pic>
        <p:nvPicPr>
          <p:cNvPr id="66" name="" descr=""/>
          <p:cNvPicPr/>
          <p:nvPr/>
        </p:nvPicPr>
        <p:blipFill>
          <a:blip r:embed="rId1"/>
          <a:stretch/>
        </p:blipFill>
        <p:spPr>
          <a:xfrm>
            <a:off x="1523880" y="1577880"/>
            <a:ext cx="6064200" cy="454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6"/>
                    </p:tgtEl>
                  </p:cond>
                </p:stCondLst>
                <p:childTnLst>
                  <p:par>
                    <p:cTn id="3" fill="hold">
                      <p:stCondLst>
                        <p:cond evt="onClick">
                          <p:tgtEl>
                            <p:spTgt spid="6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22:23:34Z</dcterms:created>
  <dc:creator>Anne Brooker-Grogan</dc:creator>
  <dc:description/>
  <dc:language>en-US</dc:language>
  <cp:lastModifiedBy>Anne Brooker-Grogan</cp:lastModifiedBy>
  <dcterms:modified xsi:type="dcterms:W3CDTF">2010-05-20T03:05:44Z</dcterms:modified>
  <cp:revision>6</cp:revision>
  <dc:subject/>
  <dc:title>Technology Proposal</dc:title>
</cp:coreProperties>
</file>