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EDEE-83C2-48B0-9049-1334DFFC1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y development activities can be shared by multiple schools at the same time, optimizing in-service days.  Additionally, these events can be stored and viewed on demand at a later date by new hires or those who were unable to attend the origi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ollaboration between schools can share specialized program materials and guest speakers.  Again, these events can be stored and view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events can be “televised” and shared with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of Ed meetings can be not only broadcast live, but also stored for future viewing, giving all parents and taxpayers a chance to see what decisions are being made and how this process happ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children with medical conditions who are out sick or undergoing extended treatments, such as chemo, can keep up with their lessons and participate along with their classmates in real-time ev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video files is a long, slow process: the files are large, and tend to slow one’s network and one’s computer.  Additionally, a few downloaded video files can inadvertently fill a user’s hard drive.  A large organization cannot use this method to view mandated video-based training because of the bandwidth required, which has slowed the diffusion of video for training to the desktop.  The result ends up being like Niagara Falls: big, loud, and uncontrol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reside on a server either on our network or on a leased server, and are accessed as needed.  This is just like the “On Demand” feature on cable or satellite TV for movies and TV shows: your choice, when you choo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treaming video superior to downloaded video is the data rate: each file is broken up into packets of data that are sent to the viewer in sequence, and the send rate and packet sizes are automatically adjusted so as to display the video on the user’s system without slowing the network or overwhelm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streaming video is carefully controlled and choreographed, just like the fountain in this video cli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grab onto this mode of communication in order to keep pace with the rest of the world.  If you go online and visit any commercial website, you will find embedded video that is streamed to your computer providing entertainment, offers, and product informait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tainment industry has realized the value of streaming video to extend audience participation, and provides viewers the opportunity to replay their favorite episodes or participants and provide their own commentary and additional content.  24/7 news sites provide constant information flow and also provide viewers with a venue to upload their own news and content, such as the Weather Channel’s iWitness weather feature where viewers can send in photos or video of weather happening in their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ucation world has also adopted streaming video to support on-line learning.  Asynchronous learning has become a much richer mode of delivery with the addition of streaming video lectures, demonstrations, and other added co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and government are using streaming video to not only augment existing asynchronous training, but to provide rapid training to address safety, legal, and other concerns where extended workforces must be brought up to speed on new information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media has not exhibited a traditional S-curve of growth and adoption—instead, it shows a precipitous vertical climb that shows no sign of leveling off in the forseeable future.  Each advance in broadband technology and mobile media provides additional viewing opportunities for streaming video and more places to place content…the result is continual growth of users and adaptors.  Basically, it is as big as the Internet and is growing at least as quickly if not more so as earlier Internet adopters get access to broadband and faster connections and can now easily stream multimedia content that was difficult to access over slower conne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 (2009) demonstrated that combining multiple modes of data input (audio and video) increase retention and understanding of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sual learners, seeing a process actually taking place yields a much better understanding of the process and its sub-par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video can be done easily in an educational environment.  A classroom laptop with a webcam is the most basic arrangement.  For more “formal” events where better video quality is desired, a system such as the one shown in this video clip will serve us well.  This system would cost under $500 to implement, and we already own cameras that can be used as sh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44E9D-2395-43C8-89EC-49E4E39D9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2051-AD1F-4D3C-887A-2C4DC63E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4FD8F-801E-44E0-8927-EEC7AE533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EBBAA-84A4-42DB-8C96-2BA93B5B2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39F8-341B-40EE-AF25-C5D367C7C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31B4-BD9F-45A1-90AA-5E2DA3D5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492B-6295-46B3-AB43-E41FC28A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1017-4DF0-4E61-961E-C2FBB0E63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717E-81BD-404B-B7DD-4CB38118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AF23-CC40-41B5-8656-9AC3B057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C6E1-D02C-45E9-86BD-558067FE2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A76A-57CE-4ABE-B07D-906833CD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8440-B496-441A-8A3A-5F936AAFB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Proposa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 Brooker-Gro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s for Applic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llab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ing events can be televised l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 mee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education for children with medic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d Way of On-Line Video:</a:t>
            </a:r>
            <a:br>
              <a:rPr sz="4000"/>
            </a:br>
            <a:r>
              <a:rPr b="0" lang="en-US" sz="4000" spc="-1" strike="noStrike">
                <a:solidFill>
                  <a:srgbClr val="000000"/>
                </a:solidFill>
                <a:latin typeface="Arial"/>
              </a:rPr>
              <a:t>Download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files slow networks/fill hard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ood way to send video to all in an organization without foul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to the desktop is not prac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rying to control Niagara Falls…not going t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Way: Streaming Vide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s reside on a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on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s are optimized to display video without slowing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is carefully controlled and choreograp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Facto Standar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s being used extensively in today’s commun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nd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Government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Streaming Vide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nstr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aming Media Adoption Rate</a:t>
            </a:r>
            <a:endParaRPr b="0" lang="en-US" sz="4400" spc="-1" strike="noStrike">
              <a:solidFill>
                <a:srgbClr val="000000"/>
              </a:solidFill>
              <a:latin typeface="Arial"/>
            </a:endParaRPr>
          </a:p>
        </p:txBody>
      </p:sp>
      <p:graphicFrame>
        <p:nvGraphicFramePr>
          <p:cNvPr id="59" name=""/>
          <p:cNvGraphicFramePr/>
          <p:nvPr/>
        </p:nvGraphicFramePr>
        <p:xfrm>
          <a:off x="463680" y="1600200"/>
          <a:ext cx="8215200" cy="4525920"/>
        </p:xfrm>
        <a:graphic>
          <a:graphicData uri="http://schemas.openxmlformats.org/presentationml/2006/ole">
            <p:oleObj r:id="rId1" spid="">
              <p:embed/>
              <p:pic>
                <p:nvPicPr>
                  <p:cNvPr id="60"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 of Streaming Video in Educational Setting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audio and moving images aid retention and understanding of presented information (Mayer,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ing a process actually take place aids in a better understanding of the process and its subse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Difficul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ing Video into Educational Environments can be done easily</a:t>
            </a:r>
            <a:br>
              <a:rPr sz="3200"/>
            </a:br>
            <a:br>
              <a:rPr sz="3200"/>
            </a:br>
            <a:r>
              <a:rPr b="0" lang="en-US" sz="3200" spc="-1" strike="noStrike">
                <a:solidFill>
                  <a:srgbClr val="000000"/>
                </a:solidFill>
                <a:latin typeface="Arial"/>
              </a:rPr>
              <a:t>Can be accomplished with minimal hardware purchases, as shown in this video:</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Streaming Technology</a:t>
            </a:r>
            <a:endParaRPr b="0" lang="en-US" sz="4000" spc="-1" strike="noStrike">
              <a:solidFill>
                <a:srgbClr val="000000"/>
              </a:solidFill>
              <a:latin typeface="Arial"/>
            </a:endParaRPr>
          </a:p>
        </p:txBody>
      </p:sp>
      <p:pic>
        <p:nvPicPr>
          <p:cNvPr id="66" name="" descr=""/>
          <p:cNvPicPr/>
          <p:nvPr/>
        </p:nvPicPr>
        <p:blipFill>
          <a:blip r:embed="rId1"/>
          <a:stretch/>
        </p:blipFill>
        <p:spPr>
          <a:xfrm>
            <a:off x="1523880" y="1577880"/>
            <a:ext cx="6064200" cy="454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2:23:34Z</dcterms:created>
  <dc:creator>Anne Brooker-Grogan</dc:creator>
  <dc:description/>
  <dc:language>en-US</dc:language>
  <cp:lastModifiedBy>Anne Brooker-Grogan</cp:lastModifiedBy>
  <dcterms:modified xsi:type="dcterms:W3CDTF">2010-05-20T03:05:44Z</dcterms:modified>
  <cp:revision>6</cp:revision>
  <dc:subject/>
  <dc:title>Technology Proposal</dc:title>
</cp:coreProperties>
</file>